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A43E-CA0B-40A5-A404-76A63401F0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A7EF-C318-42E4-9F72-4205CEF983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1151-111B-47CD-9E47-B568CA18F7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908F-4EBD-47AA-B304-5DE89BCAE9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BCFC-5BE5-4A2F-888B-94806BD6B5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729C-41B4-41BE-A862-46FCCDDA19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B96E-1435-47F4-89F3-5B7A0A335F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3B66-7F2D-421F-A3B3-65513AC1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B678-08D9-433B-A5E5-1EDC5151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E983-D352-4F4A-97C1-A277C38F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1307-925B-472D-A171-4B451924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BDEB-44CB-46B5-86E3-61A2E0F2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EA7D-2424-4881-AABF-FF004175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A36-DE5D-4382-8AE7-BD22289C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EB26-2759-488E-823F-3F051A4A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B031-D070-4DD6-9926-FC15ED1C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510D-CD09-46C8-BEF1-A3D1AAC6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98D4-DA80-4562-8CE0-89BA1E50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7FB3-E675-4DCE-BDB9-E74FAD41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F8A5-31CC-4317-A9BF-195949E1EF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611280" y="692280"/>
            <a:ext cx="7921440" cy="554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5510"/>
              </a:gs>
              <a:gs pos="100000">
                <a:srgbClr val="6f2707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0330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332000" y="1125360"/>
            <a:ext cx="6767280" cy="332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Основополагающий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вопрос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такое характе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2"/>
          <p:cNvSpPr/>
          <p:nvPr/>
        </p:nvSpPr>
        <p:spPr>
          <a:xfrm>
            <a:off x="611280" y="692280"/>
            <a:ext cx="7921440" cy="554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5510"/>
              </a:gs>
              <a:gs pos="100000">
                <a:srgbClr val="6f2707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0330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332000" y="1125360"/>
            <a:ext cx="676728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облемные вопро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то такое стереотип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им образом люди формируют представление о народах других стра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"/>
          <p:cNvSpPr/>
          <p:nvPr/>
        </p:nvSpPr>
        <p:spPr>
          <a:xfrm>
            <a:off x="611280" y="692280"/>
            <a:ext cx="7921440" cy="554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5510"/>
              </a:gs>
              <a:gs pos="100000">
                <a:srgbClr val="6f2707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0330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332000" y="907920"/>
            <a:ext cx="6767280" cy="61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ебные вопро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ов менталитет англича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ие стереотипы окружают англича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ем Англичане отличаются от Американце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ов вклад Англии в современную и мировую культуру в цел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"/>
          <p:cNvSpPr/>
          <p:nvPr/>
        </p:nvSpPr>
        <p:spPr>
          <a:xfrm>
            <a:off x="611280" y="692280"/>
            <a:ext cx="7921440" cy="554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5510"/>
              </a:gs>
              <a:gs pos="100000">
                <a:srgbClr val="6f2707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0330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332000" y="1125360"/>
            <a:ext cx="676728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ширение кругозора путём изучения культуры и национального характера изучаемой страны, получить правильное представление о людях живущих в н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"/>
          <p:cNvSpPr/>
          <p:nvPr/>
        </p:nvSpPr>
        <p:spPr>
          <a:xfrm>
            <a:off x="611280" y="692280"/>
            <a:ext cx="7921440" cy="554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5510"/>
              </a:gs>
              <a:gs pos="100000">
                <a:srgbClr val="6f2707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0330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332000" y="1125360"/>
            <a:ext cx="676728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лительность курс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ая длительность курса шесть часов, в течении трёх недель, по два часа в нед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2"/>
          <p:cNvSpPr/>
          <p:nvPr/>
        </p:nvSpPr>
        <p:spPr>
          <a:xfrm>
            <a:off x="611280" y="692280"/>
            <a:ext cx="7921440" cy="554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5510"/>
              </a:gs>
              <a:gs pos="100000">
                <a:srgbClr val="6f2707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0330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258920" y="3141720"/>
            <a:ext cx="6767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Желаем успех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7:00:35Z</dcterms:created>
  <dc:creator>FuckYouBill</dc:creator>
  <dc:description/>
  <dc:language>en-US</dc:language>
  <cp:lastModifiedBy>FuckYouBill</cp:lastModifiedBy>
  <dcterms:modified xsi:type="dcterms:W3CDTF">2009-12-03T21:49:47Z</dcterms:modified>
  <cp:revision>5</cp:revision>
  <dc:subject/>
  <dc:title>Слайд 1</dc:title>
</cp:coreProperties>
</file>